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07280" cy="437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i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О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5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Органска хемија 1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s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,β-незасићена карбонилна једињењ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3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els-Alder-ov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ак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28760" y="1428840"/>
            <a:ext cx="8229600" cy="51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els-Alder-ova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акција представља реакцију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езасићених карбонилних једињења с коњугованим диени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ом реакцијом долази до адиције диен при чему настаје шесточлани прст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els-Alder-ova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акција представља најважнији пример реакције цикло-адиц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што у овој реакцији учествује 4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лектрона из диена и 2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лекторона из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езасићених карбонилних једињења  онда се реакција још назива  (4+2)циклоади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els-Alder-ov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ак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Object 2"/>
          <p:cNvGraphicFramePr/>
          <p:nvPr/>
        </p:nvGraphicFramePr>
        <p:xfrm>
          <a:off x="1285920" y="1643040"/>
          <a:ext cx="6181560" cy="207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920" y="1643040"/>
                    <a:ext cx="6181560" cy="20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TextBox 4"/>
          <p:cNvSpPr/>
          <p:nvPr/>
        </p:nvSpPr>
        <p:spPr>
          <a:xfrm>
            <a:off x="1449360" y="3714840"/>
            <a:ext cx="6383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ен           </a:t>
            </a:r>
            <a:r>
              <a:rPr b="0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езасићено карбонилно         настали адициони произв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њење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Object 3"/>
          <p:cNvGraphicFramePr/>
          <p:nvPr/>
        </p:nvGraphicFramePr>
        <p:xfrm>
          <a:off x="2000160" y="4714920"/>
          <a:ext cx="4456080" cy="121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00160" y="4714920"/>
                    <a:ext cx="4456080" cy="121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7200" y="999720"/>
            <a:ext cx="8229600" cy="581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осебну групу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езасићених карбонилних једињења  спадају хинон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ноне можемо дефинисати као цикличне дикетоне који се редукцијом могу превести у хидрохиноне, тј. феноле који садрже две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OH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нони су изразито коњуговани системи. Због тога су обоје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нзохинон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e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уте бо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нонима сродна сложенија ароматична једињења изолована су из биолошких материјала (микроорганизама, гљива, и биших биљака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Object 2"/>
          <p:cNvGraphicFramePr/>
          <p:nvPr/>
        </p:nvGraphicFramePr>
        <p:xfrm>
          <a:off x="2714760" y="4929120"/>
          <a:ext cx="2685960" cy="172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14760" y="4929120"/>
                    <a:ext cx="2685960" cy="17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" name="Object 2"/>
          <p:cNvGraphicFramePr/>
          <p:nvPr/>
        </p:nvGraphicFramePr>
        <p:xfrm>
          <a:off x="857160" y="1285920"/>
          <a:ext cx="2871720" cy="84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7160" y="1285920"/>
                    <a:ext cx="2871720" cy="84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" name="TextBox 4"/>
          <p:cNvSpPr/>
          <p:nvPr/>
        </p:nvSpPr>
        <p:spPr>
          <a:xfrm>
            <a:off x="4230360" y="1500120"/>
            <a:ext cx="38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езасићена карбонилна једиње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Object 3"/>
          <p:cNvGraphicFramePr/>
          <p:nvPr/>
        </p:nvGraphicFramePr>
        <p:xfrm>
          <a:off x="1285920" y="2643120"/>
          <a:ext cx="137484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85920" y="2643120"/>
                    <a:ext cx="13748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Object 4"/>
          <p:cNvGraphicFramePr/>
          <p:nvPr/>
        </p:nvGraphicFramePr>
        <p:xfrm>
          <a:off x="3276720" y="2666880"/>
          <a:ext cx="1919160" cy="685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76720" y="2666880"/>
                    <a:ext cx="191916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5"/>
          <p:cNvGraphicFramePr/>
          <p:nvPr/>
        </p:nvGraphicFramePr>
        <p:xfrm>
          <a:off x="5638680" y="2743200"/>
          <a:ext cx="2446560" cy="716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8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638680" y="2743200"/>
                    <a:ext cx="244656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Object 7"/>
          <p:cNvGraphicFramePr/>
          <p:nvPr/>
        </p:nvGraphicFramePr>
        <p:xfrm>
          <a:off x="1357200" y="4429080"/>
          <a:ext cx="2224080" cy="762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0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357200" y="4429080"/>
                    <a:ext cx="222408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Object 6"/>
          <p:cNvGraphicFramePr/>
          <p:nvPr/>
        </p:nvGraphicFramePr>
        <p:xfrm>
          <a:off x="4929120" y="4500720"/>
          <a:ext cx="2536920" cy="715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2" name="Object 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929120" y="4500720"/>
                    <a:ext cx="2536920" cy="71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TextBox 8"/>
          <p:cNvSpPr/>
          <p:nvPr/>
        </p:nvSpPr>
        <p:spPr>
          <a:xfrm>
            <a:off x="1360440" y="3571920"/>
            <a:ext cx="616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ролеин                         кротоналдехид                          циметалдехид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9"/>
          <p:cNvSpPr/>
          <p:nvPr/>
        </p:nvSpPr>
        <p:spPr>
          <a:xfrm>
            <a:off x="1474920" y="5572080"/>
            <a:ext cx="551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тонска киселина                                        циметна кисел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ијање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асићена карбонилна једињења </a:t>
            </a: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00120"/>
            <a:ext cx="8229600" cy="531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асићена карбонилна једињења се могу добити алдолном кондензациј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долном кондензацијом најпре настају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хидрокси карбонилна једињења чијом даљом дехидратацијом могу настати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асићена карбонилна једињењ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ђе постоје и друге реакције којима се могу добити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асићена карбонилна једињења . Такве реакције се срећу код реакција алкена и карбонилних једињењ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67920"/>
            <a:ext cx="8229600" cy="37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је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асићена карбонилна једињења </a:t>
            </a:r>
            <a:br>
              <a:rPr sz="2400"/>
            </a:b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84428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филна ади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клеофилна ади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haelova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и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els-Alderova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ја електрофилне ади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7146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утна карбонилна група смањује реактивност двоструке везе, али уједно и контролише оријентацију адиц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општено се може рећи да се код адиције неког несиметричног реагенса на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асићена карбонилна једињења водоник веже на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угљеников атом, а негатина група на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угљеник</a:t>
            </a:r>
            <a:br>
              <a:rPr sz="2000"/>
            </a:b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Object 2"/>
          <p:cNvGraphicFramePr/>
          <p:nvPr/>
        </p:nvGraphicFramePr>
        <p:xfrm>
          <a:off x="1071720" y="4143240"/>
          <a:ext cx="5786280" cy="11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4143240"/>
                    <a:ext cx="5786280" cy="11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зам електрофилне ади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2"/>
          <p:cNvGraphicFramePr/>
          <p:nvPr/>
        </p:nvGraphicFramePr>
        <p:xfrm>
          <a:off x="714240" y="2000160"/>
          <a:ext cx="7782120" cy="364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4240" y="2000160"/>
                    <a:ext cx="7782120" cy="36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ја нуклеофилне ади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2"/>
          <p:cNvGraphicFramePr/>
          <p:nvPr/>
        </p:nvGraphicFramePr>
        <p:xfrm>
          <a:off x="647640" y="2000160"/>
          <a:ext cx="6656400" cy="242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640" y="2000160"/>
                    <a:ext cx="6656400" cy="24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зам нуклеофилне ади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Object 2"/>
          <p:cNvGraphicFramePr/>
          <p:nvPr/>
        </p:nvGraphicFramePr>
        <p:xfrm>
          <a:off x="776160" y="2050920"/>
          <a:ext cx="7639200" cy="330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6160" y="2050920"/>
                    <a:ext cx="7639200" cy="330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hael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a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и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42680"/>
            <a:ext cx="8229600" cy="51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hael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a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иција је реакција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α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асићена карбонилна једињења са малонским естром, ацетосирћетним естром, етил цијаноацетатом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Object 2"/>
          <p:cNvGraphicFramePr/>
          <p:nvPr/>
        </p:nvGraphicFramePr>
        <p:xfrm>
          <a:off x="1071720" y="2928960"/>
          <a:ext cx="728316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928960"/>
                    <a:ext cx="728316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Ana</cp:lastModifiedBy>
  <dcterms:modified xsi:type="dcterms:W3CDTF">2016-01-26T10:33:45Z</dcterms:modified>
  <cp:revision>116</cp:revision>
  <dc:subject/>
  <dc:title>Slide 1</dc:title>
</cp:coreProperties>
</file>